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7DE-8226-4E8D-86CA-49C1E3C1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806-6DF1-42E3-9AFD-537038C4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88E-97C9-4080-9292-D5A1DEA1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7D2-715B-4B05-B8A3-7B103903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9A1-D6CC-49DE-A74C-2B721643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8E4-F525-42D5-80C7-C6FCD865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011-4A22-48DD-A7C2-FA59B500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FA7-F238-4654-8642-59F1620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31E-516C-410A-8AF3-34107F7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91D-26CA-464F-8047-7934A82D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9A3-4A1D-4901-8701-5492119D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7BB-5E12-4523-8E76-004BBD5C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E4E2-1AE8-4DAB-AEAD-1B1631F3E2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1"/>
          <p:cNvGrpSpPr/>
          <p:nvPr/>
        </p:nvGrpSpPr>
        <p:grpSpPr>
          <a:xfrm>
            <a:off x="-4680" y="0"/>
            <a:ext cx="9148680" cy="6853320"/>
            <a:chOff x="-4680" y="0"/>
            <a:chExt cx="9148680" cy="6853320"/>
          </a:xfrm>
        </p:grpSpPr>
        <p:pic>
          <p:nvPicPr>
            <p:cNvPr id="42" name="Picture 4" descr="FONDO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10"/>
            <p:cNvSpPr txBox="1"/>
            <p:nvPr/>
          </p:nvSpPr>
          <p:spPr>
            <a:xfrm>
              <a:off x="270828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44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228600" y="476280"/>
            <a:ext cx="876312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Verdana"/>
                <a:ea typeface="Times New Roman"/>
              </a:rPr>
              <a:t>INSTITUCIONES AMIGAS DE LA MUJER Y LA INFANCIA –IAMI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334800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3492360" y="3236760"/>
            <a:ext cx="52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. DIANA MARIA VILLOTA VAL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ordinación Operativa Estrategia 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4680" y="549360"/>
            <a:ext cx="9148680" cy="6853320"/>
            <a:chOff x="-4680" y="549360"/>
            <a:chExt cx="9148680" cy="6853320"/>
          </a:xfrm>
        </p:grpSpPr>
        <p:pic>
          <p:nvPicPr>
            <p:cNvPr id="102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4680" y="54936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4"/>
            <p:cNvSpPr txBox="1"/>
            <p:nvPr/>
          </p:nvSpPr>
          <p:spPr>
            <a:xfrm>
              <a:off x="2708280" y="702648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PASO 7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Favorecer el alojamiento conjunto y el acompañ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2840" y="19890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condiciones para mantener la lactancia materna, incluso en situación de hospitalización de la madre y/o el hij@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cia permanente de un acompañ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 adecuadas para el acompañamiento y horarios flex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Documents and Settings\user\Mis documentos\HUDN -IAMI-2010\IAMI - H. DEPARTAMENTAL NARIÑO\INFORMACION IAMI INSTITUCION\fotos\DSC00671.JPG"/>
          <p:cNvPicPr/>
          <p:nvPr/>
        </p:nvPicPr>
        <p:blipFill>
          <a:blip r:embed="rId2"/>
          <a:stretch/>
        </p:blipFill>
        <p:spPr>
          <a:xfrm>
            <a:off x="250920" y="2276640"/>
            <a:ext cx="25635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108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8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Atención Integral en salud y nutrición a los niña@s para su adecuado crecimiento y desarrollo –  AIPI</a:t>
            </a:r>
            <a:r>
              <a:rPr b="0" lang="es-ES" sz="2000" spc="-1" strike="noStrike">
                <a:solidFill>
                  <a:srgbClr val="82b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92160" y="242064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ementación del componente AIEPI – neonatal en la instit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SN- compromiso capacitar a los pediat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C:\Documents and Settings\user\Mis documentos\HUDN -IAMI-2010\IAMI - H. DEPARTAMENTAL NARIÑO\INFORMACION IAMI INSTITUCION\fotos\015.JPG"/>
          <p:cNvPicPr/>
          <p:nvPr/>
        </p:nvPicPr>
        <p:blipFill>
          <a:blip r:embed="rId2"/>
          <a:stretch/>
        </p:blipFill>
        <p:spPr>
          <a:xfrm>
            <a:off x="250920" y="2276640"/>
            <a:ext cx="24764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114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9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Entornos protectores y espacios amig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773000"/>
            <a:ext cx="6172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rantizar que Todo el personal del HUDN porte la ident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el cumplimiento de la atención de los Usuarios preferenciales, por parte de Todo el personal de la Instit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r la Oportunidad en la atención del Usuario prefer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el juego en niños y niños como practica de desarrollo temprano - SALA AMIGA DE LOS NIÑOS  Y DE LA LACTANCIA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Esain\Documents\FOTOS VISITA UNICEF 10 DE JUNIO 208\00141.jpg"/>
          <p:cNvPicPr/>
          <p:nvPr/>
        </p:nvPicPr>
        <p:blipFill>
          <a:blip r:embed="rId2"/>
          <a:stretch/>
        </p:blipFill>
        <p:spPr>
          <a:xfrm>
            <a:off x="250920" y="2060640"/>
            <a:ext cx="2520720" cy="3384360"/>
          </a:xfrm>
          <a:prstGeom prst="rect">
            <a:avLst/>
          </a:prstGeom>
          <a:ln w="0">
            <a:noFill/>
          </a:ln>
        </p:spPr>
      </p:pic>
      <p:sp>
        <p:nvSpPr>
          <p:cNvPr id="119" name="7 Rectángulo"/>
          <p:cNvSpPr/>
          <p:nvPr/>
        </p:nvSpPr>
        <p:spPr>
          <a:xfrm>
            <a:off x="762840" y="5661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1"/>
          <p:cNvGrpSpPr/>
          <p:nvPr/>
        </p:nvGrpSpPr>
        <p:grpSpPr>
          <a:xfrm>
            <a:off x="34920" y="-27000"/>
            <a:ext cx="9148680" cy="6854760"/>
            <a:chOff x="34920" y="-27000"/>
            <a:chExt cx="9148680" cy="6854760"/>
          </a:xfrm>
        </p:grpSpPr>
        <p:pic>
          <p:nvPicPr>
            <p:cNvPr id="121" name="Picture 4" descr="FONDO"/>
            <p:cNvPicPr/>
            <p:nvPr/>
          </p:nvPicPr>
          <p:blipFill>
            <a:blip r:embed="rId1"/>
            <a:stretch/>
          </p:blipFill>
          <p:spPr>
            <a:xfrm>
              <a:off x="34920" y="-27000"/>
              <a:ext cx="9148680" cy="68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WordArt 10"/>
            <p:cNvSpPr txBox="1"/>
            <p:nvPr/>
          </p:nvSpPr>
          <p:spPr>
            <a:xfrm>
              <a:off x="2779560" y="66913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23" name="9 Marcador de texto"/>
          <p:cNvSpPr/>
          <p:nvPr/>
        </p:nvSpPr>
        <p:spPr>
          <a:xfrm>
            <a:off x="611280" y="476280"/>
            <a:ext cx="7929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inuidad en el cuidado de la salud y nutrición más allá de la INSTITUCI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Rectángulo"/>
          <p:cNvSpPr/>
          <p:nvPr/>
        </p:nvSpPr>
        <p:spPr>
          <a:xfrm>
            <a:off x="4284720" y="265104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pacitarlas como Do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Documents and Settings\user\Mis documentos\HUDN -IAMI-2010\IAMI - H. DEPARTAMENTAL NARIÑO\INFORMACION IAMI INSTITUCION\fotos\imagenes 10 pasos_1\imagenes 10 pasos\45.JPG"/>
          <p:cNvPicPr/>
          <p:nvPr/>
        </p:nvPicPr>
        <p:blipFill>
          <a:blip r:embed="rId2"/>
          <a:stretch/>
        </p:blipFill>
        <p:spPr>
          <a:xfrm>
            <a:off x="488880" y="2276640"/>
            <a:ext cx="35784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36360" y="0"/>
            <a:ext cx="9148680" cy="6853320"/>
            <a:chOff x="-36360" y="0"/>
            <a:chExt cx="9148680" cy="6853320"/>
          </a:xfrm>
        </p:grpSpPr>
        <p:pic>
          <p:nvPicPr>
            <p:cNvPr id="127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4"/>
            <p:cNvSpPr txBox="1"/>
            <p:nvPr/>
          </p:nvSpPr>
          <p:spPr>
            <a:xfrm>
              <a:off x="267660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129" name="Picture 11" descr="http://t2.gstatic.com/images?q=tbn:ozvmJzB-qMzcrM:http://www.ropadepeques.com/uploads/assets/product/117/product_img/babero-3-meses.jpg"/>
          <p:cNvPicPr/>
          <p:nvPr/>
        </p:nvPicPr>
        <p:blipFill>
          <a:blip r:embed="rId2"/>
          <a:stretch/>
        </p:blipFill>
        <p:spPr>
          <a:xfrm rot="1756200">
            <a:off x="350640" y="2651040"/>
            <a:ext cx="1411200" cy="180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1" lang="es-ES" sz="2800" spc="-1" strike="noStrike">
                <a:solidFill>
                  <a:srgbClr val="006600"/>
                </a:solidFill>
                <a:latin typeface="Verdana"/>
              </a:rPr>
              <a:t>TODOS DEBEMOS HABLAR EL MISMO IDIO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84360" y="1295280"/>
            <a:ext cx="640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cializar la política IAMI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personal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 de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ornada de capacitación y actualización con apoyo IDSN – equipo de sal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ípodes con los 10 pasos y política I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tación virtual- para el talento humano del HU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ual de la gestante - Aseguradoras y I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afolio informativo - Grupo de apoyo y enferm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tilla y kit del recién nacido - Gestantes y madres atendidas en el HUD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de recién nacidos y mamas – para fortalecer la educación a las madres y famil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http://t0.gstatic.com/images?q=tbn:womou-yTPRG6sM:http://img3cdn.adoosimg.com/706f471261bb7bd3664a64982204ccfb-1-3.jpg"/>
          <p:cNvPicPr/>
          <p:nvPr/>
        </p:nvPicPr>
        <p:blipFill>
          <a:blip r:embed="rId3"/>
          <a:stretch/>
        </p:blipFill>
        <p:spPr>
          <a:xfrm rot="20194800">
            <a:off x="839880" y="998640"/>
            <a:ext cx="117468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4"/>
          <a:stretch/>
        </p:blipFill>
        <p:spPr>
          <a:xfrm rot="21229200">
            <a:off x="90360" y="4511520"/>
            <a:ext cx="1754280" cy="178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5"/>
          <a:stretch/>
        </p:blipFill>
        <p:spPr>
          <a:xfrm rot="2133000">
            <a:off x="712440" y="3533400"/>
            <a:ext cx="520560" cy="50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6360" y="0"/>
            <a:ext cx="9148680" cy="6853320"/>
            <a:chOff x="-36360" y="0"/>
            <a:chExt cx="9148680" cy="6853320"/>
          </a:xfrm>
        </p:grpSpPr>
        <p:pic>
          <p:nvPicPr>
            <p:cNvPr id="136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4"/>
            <p:cNvSpPr txBox="1"/>
            <p:nvPr/>
          </p:nvSpPr>
          <p:spPr>
            <a:xfrm>
              <a:off x="267660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Verdana"/>
              </a:rPr>
              <a:t>ACCIONES PARA EL FORTALECIMIENTO DE LA ESTRATEGIA 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oportuna del resultado de TSH neonatal – vi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cionar la semana de la lactancia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visión de Historias clínicas para verificar el diligenciamiento de Clap, Partograma, control postparto, listas de chequeo - Ronda de seguridad con Auditoria me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34920" y="31680"/>
            <a:ext cx="9163080" cy="6853320"/>
            <a:chOff x="34920" y="31680"/>
            <a:chExt cx="9163080" cy="6853320"/>
          </a:xfrm>
        </p:grpSpPr>
        <p:pic>
          <p:nvPicPr>
            <p:cNvPr id="141" name="Picture 3" descr="FONDO"/>
            <p:cNvPicPr/>
            <p:nvPr/>
          </p:nvPicPr>
          <p:blipFill>
            <a:blip r:embed="rId1"/>
            <a:stretch/>
          </p:blipFill>
          <p:spPr>
            <a:xfrm>
              <a:off x="34920" y="3168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WordArt 4"/>
            <p:cNvSpPr txBox="1"/>
            <p:nvPr/>
          </p:nvSpPr>
          <p:spPr>
            <a:xfrm>
              <a:off x="289224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43" name="6 Rectángulo"/>
          <p:cNvSpPr/>
          <p:nvPr/>
        </p:nvSpPr>
        <p:spPr>
          <a:xfrm>
            <a:off x="1258920" y="90792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82b000"/>
                </a:solidFill>
                <a:latin typeface="Arial"/>
              </a:rPr>
              <a:t>LA IAMI ES UNA ESTRATEGIA QUE   IMPACTA EN LOS PROCESOS MAS COMPLEJOS QUE TIENE EL SER HUMANO COMO ES LA GESTACIÓN EL NACIMIENTO, LA CRIANZA Y  LA CONSOLIDACIÓN DE FAMIL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9163080" cy="6853320"/>
            <a:chOff x="0" y="0"/>
            <a:chExt cx="9163080" cy="6853320"/>
          </a:xfrm>
        </p:grpSpPr>
        <p:pic>
          <p:nvPicPr>
            <p:cNvPr id="145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4"/>
            <p:cNvSpPr txBox="1"/>
            <p:nvPr/>
          </p:nvSpPr>
          <p:spPr>
            <a:xfrm>
              <a:off x="2857320" y="644544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47" name="6 Flecha derecha"/>
          <p:cNvSpPr/>
          <p:nvPr/>
        </p:nvSpPr>
        <p:spPr>
          <a:xfrm>
            <a:off x="1332000" y="981000"/>
            <a:ext cx="7200720" cy="46800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2285640"/>
            <a:ext cx="66434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s-ES" sz="4000" spc="-1" strike="noStrike">
                <a:solidFill>
                  <a:srgbClr val="82b000"/>
                </a:solidFill>
                <a:latin typeface="Arial"/>
              </a:rPr>
              <a:t>ACREDITADO COMO UNA INSTITUCION AMIGA DE LA MUJER Y LA INFANC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1 Rectángulo"/>
          <p:cNvSpPr/>
          <p:nvPr/>
        </p:nvSpPr>
        <p:spPr>
          <a:xfrm>
            <a:off x="545040" y="1413000"/>
            <a:ext cx="73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-4680" y="0"/>
            <a:ext cx="9148680" cy="6853320"/>
            <a:chOff x="-4680" y="0"/>
            <a:chExt cx="9148680" cy="6853320"/>
          </a:xfrm>
        </p:grpSpPr>
        <p:pic>
          <p:nvPicPr>
            <p:cNvPr id="49" name="Picture 4" descr="FONDO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10"/>
            <p:cNvSpPr txBox="1"/>
            <p:nvPr/>
          </p:nvSpPr>
          <p:spPr>
            <a:xfrm>
              <a:off x="270828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51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228600" y="476280"/>
            <a:ext cx="876312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3348000" cy="345600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3348000" y="720720"/>
            <a:ext cx="56167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corazón a corazón nuestra institución promueve la salud materna e infantil de la población Nariñense, por  medio del fortalecimiento de la Estrategia Institución Amiga de la Mujer y la Infancia –IAMI-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0" y="290520"/>
            <a:ext cx="9148680" cy="6853320"/>
            <a:chOff x="0" y="290520"/>
            <a:chExt cx="9148680" cy="6853320"/>
          </a:xfrm>
        </p:grpSpPr>
        <p:pic>
          <p:nvPicPr>
            <p:cNvPr id="56" name="Picture 4" descr="FONDO"/>
            <p:cNvPicPr/>
            <p:nvPr/>
          </p:nvPicPr>
          <p:blipFill>
            <a:blip r:embed="rId1"/>
            <a:stretch/>
          </p:blipFill>
          <p:spPr>
            <a:xfrm>
              <a:off x="0" y="29052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0"/>
            <p:cNvSpPr txBox="1"/>
            <p:nvPr/>
          </p:nvSpPr>
          <p:spPr>
            <a:xfrm>
              <a:off x="2712960" y="676764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58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59280" y="1557360"/>
            <a:ext cx="590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ualizar la política y comité según los lineamientos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ir la estrategia dentro del plan operativo anual o dentro del plan de desarrol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el Comité estrategia IAMI – Crear junta y asignación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189000" y="1809720"/>
            <a:ext cx="2938320" cy="3567240"/>
          </a:xfrm>
          <a:prstGeom prst="rect">
            <a:avLst/>
          </a:prstGeom>
          <a:ln w="0">
            <a:noFill/>
          </a:ln>
        </p:spPr>
      </p:pic>
      <p:sp>
        <p:nvSpPr>
          <p:cNvPr id="61" name="8 Rectángulo"/>
          <p:cNvSpPr/>
          <p:nvPr/>
        </p:nvSpPr>
        <p:spPr>
          <a:xfrm>
            <a:off x="3412440" y="189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Rectángulo"/>
          <p:cNvSpPr/>
          <p:nvPr/>
        </p:nvSpPr>
        <p:spPr>
          <a:xfrm>
            <a:off x="1065960" y="836640"/>
            <a:ext cx="67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VOLUNTAD POLITIC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64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2: </a:t>
            </a:r>
            <a:br>
              <a:rPr sz="3200"/>
            </a:b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PREPARACIÓN TÉCNICA, CONCEPTUAL Y PRÁCTICA EN SALUD Y NUTRICIÓN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Documents and Settings\user\Mis documentos\HUDN -IAMI-2010\IAMI - H. DEPARTAMENTAL NARIÑO\INFORMACION IAMI INSTITUCION\fotos\DSC07538.JPG"/>
          <p:cNvPicPr/>
          <p:nvPr/>
        </p:nvPicPr>
        <p:blipFill>
          <a:blip r:embed="rId2"/>
          <a:stretch/>
        </p:blipFill>
        <p:spPr>
          <a:xfrm>
            <a:off x="468360" y="1773360"/>
            <a:ext cx="3308400" cy="3624120"/>
          </a:xfrm>
          <a:prstGeom prst="rect">
            <a:avLst/>
          </a:prstGeom>
          <a:ln w="0">
            <a:noFill/>
          </a:ln>
        </p:spPr>
      </p:pic>
      <p:sp>
        <p:nvSpPr>
          <p:cNvPr id="68" name="6 Rectángulo"/>
          <p:cNvSpPr/>
          <p:nvPr/>
        </p:nvSpPr>
        <p:spPr>
          <a:xfrm>
            <a:off x="4140360" y="1844640"/>
            <a:ext cx="453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CAPACITACIO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lización de la estrategia IAMI –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l personal de la organiza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O EL PERSONAL - TRIPODES CON LOS 10 PASOS Y POLITICA I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0" y="147600"/>
            <a:ext cx="9148680" cy="6853320"/>
            <a:chOff x="0" y="147600"/>
            <a:chExt cx="9148680" cy="6853320"/>
          </a:xfrm>
        </p:grpSpPr>
        <p:pic>
          <p:nvPicPr>
            <p:cNvPr id="70" name="Picture 4" descr="FONDO"/>
            <p:cNvPicPr/>
            <p:nvPr/>
          </p:nvPicPr>
          <p:blipFill>
            <a:blip r:embed="rId1"/>
            <a:stretch/>
          </p:blipFill>
          <p:spPr>
            <a:xfrm>
              <a:off x="0" y="14760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10"/>
            <p:cNvSpPr txBox="1"/>
            <p:nvPr/>
          </p:nvSpPr>
          <p:spPr>
            <a:xfrm>
              <a:off x="2712960" y="66247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72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237960" y="285840"/>
            <a:ext cx="8763120" cy="235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500040" y="4857840"/>
            <a:ext cx="8215200" cy="200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2b000"/>
                </a:solidFill>
                <a:latin typeface="Arial"/>
              </a:rPr>
              <a:t>PLAN DE CAPACIT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785440" cy="5267520"/>
        </p:xfrm>
        <a:graphic>
          <a:graphicData uri="http://schemas.openxmlformats.org/drawingml/2006/table">
            <a:tbl>
              <a:tblPr/>
              <a:tblGrid>
                <a:gridCol w="2168640"/>
                <a:gridCol w="3060720"/>
                <a:gridCol w="3556080"/>
              </a:tblGrid>
              <a:tr h="28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PROGR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DIRIGIDO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AVA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In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que ingresa a la institución, estudiantes y docentes de los diferentes Convenios docencia- servic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stión para la participación dentro de la jornada de inducción de los estudiantes – </a:t>
                      </a:r>
                      <a:r>
                        <a:rPr b="0" lang="es-ES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OFICIO NUEV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upos de las diferentes á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del área de Apoyo Logístico – </a:t>
                      </a:r>
                      <a:r>
                        <a:rPr b="0" lang="es-ES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JORNADAS DE SOCIALIZAC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4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Gestantes y sus parejas o acompañ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stantes (adolescentes y/o adultas) y sus parejas o acompañantes que asisten a la institu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ejerías a madres y acompañ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Grupos de ap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upo intrainstitu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proc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Capacitación teórica práctica sobre la estrategía  I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de las diferentes disciplinas que brindan atención directa a mujeres, madres, niños, niñas y sus familias en la institu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ornadas de capaci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,26,27 Ago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, 29,30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78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3: </a:t>
            </a:r>
            <a:br>
              <a:rPr sz="2800"/>
            </a:br>
            <a:r>
              <a:rPr b="1" lang="es-ES" sz="2400" spc="-1" strike="noStrike">
                <a:solidFill>
                  <a:srgbClr val="82b000"/>
                </a:solidFill>
                <a:latin typeface="Arial"/>
              </a:rPr>
              <a:t>EDUCACIÓN, INFORMACIÓN Y ATENCIÓN EN SALUD Y NUTRICIÓN A LAS GESTANTES, MUJERES EN PERIODO DE LACTANCIA MATERNA Y SUS FAMIL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131640" y="2492280"/>
            <a:ext cx="549612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ulta externa atención de la gestante de alto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relación con aseguradoras e instituciones de I nivel, para socialización del MANUAL PARA LA MADRE GE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2305080" cy="328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9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84" name="Picture 2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WordArt 6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936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4</a:t>
            </a:r>
            <a:br>
              <a:rPr sz="2800"/>
            </a:br>
            <a:r>
              <a:rPr b="0" lang="es-ES" sz="3000" spc="-1" strike="noStrike">
                <a:solidFill>
                  <a:srgbClr val="82b000"/>
                </a:solidFill>
                <a:latin typeface="Arial"/>
              </a:rPr>
              <a:t>Trabajo de parto y parto con calidad y calidez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47640" y="1557360"/>
            <a:ext cx="5545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mpañamiento de la gestante al trabajo de parto y parto – Do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temprano de lactancia materna 1 la primera hora después del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cto piel a pi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nzamiento oportuno del cordón umbil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 muestras para TSH neonatal y hemo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ilaxis umbilical, ocular, vitamina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http://www.quenoosseparen.info/articulos/noseparar/imgs/cordonumbilical05.jpg"/>
          <p:cNvPicPr/>
          <p:nvPr/>
        </p:nvPicPr>
        <p:blipFill>
          <a:blip r:embed="rId2"/>
          <a:stretch/>
        </p:blipFill>
        <p:spPr>
          <a:xfrm>
            <a:off x="250920" y="2349360"/>
            <a:ext cx="2992320" cy="232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31680"/>
            <a:ext cx="9148680" cy="6853320"/>
            <a:chOff x="0" y="31680"/>
            <a:chExt cx="9148680" cy="6853320"/>
          </a:xfrm>
        </p:grpSpPr>
        <p:pic>
          <p:nvPicPr>
            <p:cNvPr id="90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3168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4"/>
            <p:cNvSpPr txBox="1"/>
            <p:nvPr/>
          </p:nvSpPr>
          <p:spPr>
            <a:xfrm>
              <a:off x="2712960" y="650880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492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5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Educación y atención con calidad y calidez en el puerperio al binomio madre-hij@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79640" y="2133720"/>
            <a:ext cx="482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ención y ayuda a las madres y familia en salud y nutrición materna e infan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gistro civ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es posparto y del recién na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C:\Documents and Settings\user\Mis documentos\HUDN -IAMI-2010\IAMI - H. DEPARTAMENTAL NARIÑO\INFORMACION IAMI INSTITUCION\fotos\imagenes 10 pasos_1\imagenes 10 pasos\36.jpg"/>
          <p:cNvPicPr/>
          <p:nvPr/>
        </p:nvPicPr>
        <p:blipFill>
          <a:blip r:embed="rId2"/>
          <a:stretch/>
        </p:blipFill>
        <p:spPr>
          <a:xfrm>
            <a:off x="468360" y="2276640"/>
            <a:ext cx="28796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96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PASO 6 </a:t>
            </a:r>
            <a:br>
              <a:rPr sz="2800"/>
            </a:b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Apoyo efectivo en la práctica de la lactancia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32000" y="1974600"/>
            <a:ext cx="5740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la lactancia materna exclusiva, a libre demanda durante los 6 primeros meses de vida y con alimentación complementaria hasta los 2 años y 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mplir con el cód. internacional de comercialización de sucedáneos de leche  ma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Nutr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:\Documents and Settings\user\Mis documentos\HUDN -IAMI-2010\IAMI - H. DEPARTAMENTAL NARIÑO\INFORMACION IAMI INSTITUCION\fotos\Imagen 008.jpg"/>
          <p:cNvPicPr/>
          <p:nvPr/>
        </p:nvPicPr>
        <p:blipFill>
          <a:blip r:embed="rId2"/>
          <a:stretch/>
        </p:blipFill>
        <p:spPr>
          <a:xfrm>
            <a:off x="466560" y="2235240"/>
            <a:ext cx="2665440" cy="234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3:31Z</dcterms:created>
  <dc:creator>..</dc:creator>
  <dc:description/>
  <dc:language>en-US</dc:language>
  <cp:lastModifiedBy>PRESARIO</cp:lastModifiedBy>
  <dcterms:modified xsi:type="dcterms:W3CDTF">2010-07-21T15:15:50Z</dcterms:modified>
  <cp:revision>35</cp:revision>
  <dc:subject/>
  <dc:title>Diapositiva 1</dc:title>
</cp:coreProperties>
</file>